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2B4-49F8-44BC-BBD3-32768EEF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929-2850-4B71-855B-FF70506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AE1-ED72-4F1D-B1AE-EB4E8BA0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738-1179-4AE5-BF99-65E08C72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20C-5583-4772-9D47-AAC73D76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5CA-D71B-4C87-986C-CDEB4E4F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0E8-F218-48D9-9DA0-7C4FB2B4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DD4-B125-49E3-93B2-DC7E2E8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9A7-9415-4566-A6AC-A5D5973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092-93E0-42E5-8E6F-A8480B4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9B7-8969-4A6F-AD28-6B7B753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0F0-8299-4F65-9988-4AAFB32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2981-033F-479C-AE73-FACD91A605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7520" y="11556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内蒙古自治区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第五届师范生教学技能大赛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800"/>
            </a:br>
            <a:r>
              <a:rPr b="1" lang="zh-CN" sz="7200" spc="-1" strike="noStrike">
                <a:solidFill>
                  <a:srgbClr val="ffffff"/>
                </a:solidFill>
                <a:latin typeface="Calibri"/>
              </a:rPr>
              <a:t>获奖名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79520" y="-30600"/>
            <a:ext cx="1071360" cy="71010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地理科学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95520" y="349200"/>
          <a:ext cx="9217080" cy="6175440"/>
        </p:xfrm>
        <a:graphic>
          <a:graphicData uri="http://schemas.openxmlformats.org/drawingml/2006/table">
            <a:tbl>
              <a:tblPr/>
              <a:tblGrid>
                <a:gridCol w="1089000"/>
                <a:gridCol w="2940120"/>
                <a:gridCol w="3155760"/>
                <a:gridCol w="2032200"/>
              </a:tblGrid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刘晓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贾志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贾琴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闫二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田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清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孙冬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宛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卢胜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0440" y="259920"/>
            <a:ext cx="865080" cy="67215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物理学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08240" y="549360"/>
          <a:ext cx="9217080" cy="5975280"/>
        </p:xfrm>
        <a:graphic>
          <a:graphicData uri="http://schemas.openxmlformats.org/drawingml/2006/table">
            <a:tbl>
              <a:tblPr/>
              <a:tblGrid>
                <a:gridCol w="1087560"/>
                <a:gridCol w="2939760"/>
                <a:gridCol w="3157560"/>
                <a:gridCol w="203220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晓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萌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宋朝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瑞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新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赵晓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杨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梁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邵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瑛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高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吴玉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07880" y="773280"/>
            <a:ext cx="998640" cy="5587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化学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24240" y="419040"/>
          <a:ext cx="9072360" cy="5942160"/>
        </p:xfrm>
        <a:graphic>
          <a:graphicData uri="http://schemas.openxmlformats.org/drawingml/2006/table">
            <a:tbl>
              <a:tblPr/>
              <a:tblGrid>
                <a:gridCol w="1071360"/>
                <a:gridCol w="2894040"/>
                <a:gridCol w="3106800"/>
                <a:gridCol w="20001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刘欣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屈忠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殷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夏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荆予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许嘉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安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吴海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段冰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任艳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肖婉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79160" y="309600"/>
            <a:ext cx="927000" cy="6454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生物科学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08240" y="620640"/>
          <a:ext cx="9145440" cy="5832720"/>
        </p:xfrm>
        <a:graphic>
          <a:graphicData uri="http://schemas.openxmlformats.org/drawingml/2006/table">
            <a:tbl>
              <a:tblPr/>
              <a:tblGrid>
                <a:gridCol w="1079640"/>
                <a:gridCol w="2916000"/>
                <a:gridCol w="3133800"/>
                <a:gridCol w="201600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袁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吕文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贾红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白永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毅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魏晶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康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鄂美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梦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50800" y="382680"/>
            <a:ext cx="712800" cy="60926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小学教育语文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35160" y="620640"/>
          <a:ext cx="9290160" cy="5710320"/>
        </p:xfrm>
        <a:graphic>
          <a:graphicData uri="http://schemas.openxmlformats.org/drawingml/2006/table">
            <a:tbl>
              <a:tblPr/>
              <a:tblGrid>
                <a:gridCol w="1096920"/>
                <a:gridCol w="2963880"/>
                <a:gridCol w="3181320"/>
                <a:gridCol w="2048040"/>
              </a:tblGrid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赵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屈佳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杨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慧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慧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吴晓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潘佳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杜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齐红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冯晓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邵弘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50800" y="706320"/>
            <a:ext cx="1000080" cy="5445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小学教育数学（汉语）组获奖名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135160" y="765000"/>
          <a:ext cx="9361440" cy="5616720"/>
        </p:xfrm>
        <a:graphic>
          <a:graphicData uri="http://schemas.openxmlformats.org/drawingml/2006/table">
            <a:tbl>
              <a:tblPr/>
              <a:tblGrid>
                <a:gridCol w="1106640"/>
                <a:gridCol w="2984400"/>
                <a:gridCol w="3206880"/>
                <a:gridCol w="2063520"/>
              </a:tblGrid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温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才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解海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马卉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孟繁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宋嘉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雨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陶丹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许爱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79160" y="130320"/>
            <a:ext cx="927000" cy="6597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小学教育英语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35160" y="765000"/>
          <a:ext cx="9577440" cy="5616720"/>
        </p:xfrm>
        <a:graphic>
          <a:graphicData uri="http://schemas.openxmlformats.org/drawingml/2006/table">
            <a:tbl>
              <a:tblPr/>
              <a:tblGrid>
                <a:gridCol w="1131840"/>
                <a:gridCol w="3054600"/>
                <a:gridCol w="3279600"/>
                <a:gridCol w="2111400"/>
              </a:tblGrid>
              <a:tr h="62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白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刘嘉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旭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霍文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高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黄瑾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田晓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陈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包头师范学院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55520" y="1988640"/>
            <a:ext cx="10296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李春江、刘旭、刘丽丽、武慧敏、王朝霞、张玉恒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赵军、李慧茹、刘静静、杨立国、门中华、张海燕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董金茂、杨一、李娜、王晓庭、贺晋秀、杨利君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田春凤、苏虹、王志东、高学明、徐丽华、武合新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李秀丽、严瑞清、郑红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赤峰学院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51160" y="2421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刘晓惠、王琦慧、李国民、苏日塔拉图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刘晓丽、呼德力根、吕立君、玉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河套学院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1880" y="2923920"/>
            <a:ext cx="482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王继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39880" y="475920"/>
            <a:ext cx="503280" cy="609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汉语言文学（汉语）组获奖名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8240" y="60480"/>
          <a:ext cx="9326520" cy="6737040"/>
        </p:xfrm>
        <a:graphic>
          <a:graphicData uri="http://schemas.openxmlformats.org/drawingml/2006/table">
            <a:tbl>
              <a:tblPr/>
              <a:tblGrid>
                <a:gridCol w="2092320"/>
                <a:gridCol w="1903320"/>
                <a:gridCol w="2809800"/>
                <a:gridCol w="25210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月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滢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罗雯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拓宇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菁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项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郑小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会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徐庆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河套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陈磊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飞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班亚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河套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媛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白雪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呼和浩特民族学院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8108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其木格、萨仁格日乐、红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呼伦贝尔学院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10840" y="2349360"/>
            <a:ext cx="10441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曲建华、蔡文婷、陈岩春、韩治平、陈英哲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樊庆德、吴红艳、石磊、长林、张志莉、明兰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朝克巴特尔、李艳华、冯珊珊、曹洪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集宁师范学院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33560" y="2707920"/>
            <a:ext cx="964872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赵娜、王腾、武彦赟、许俊芳、吴亚丽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李强、徐松鹤、曹亚玲、王秀琴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刘春艳、贺瑜、胡红彦、呼和满都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内蒙古民族大学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周坤、李瑞华、陈元峰、包永春、荣丽男、靳玲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王维清、张宪功、戴永、徐吉明、斯琴、白萨如拉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白萨如拉、刘春明、许超、斯琴高娃、七十六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彭红梅、窦宏志、裴培、阿拉腾巴特尔、葛红宇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宝金华、戴秀萍、吴金莲、白塔娜、龚斯琴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其乐木格、哈斯呼、图雅、呼日乐巴特尔、丹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内蒙古师范大学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优秀指导教师名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9520" y="1915920"/>
            <a:ext cx="1029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张卫青、赵伟、毛润民、黎秀娥、王海燕、王奖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史风春、弓剑、刘燕、李春兰、毕力格图、顾媛媛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乌晓晔、朝格图、齐玉梅、吴图雅、朝克夫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那日苏、孙咏萍、曹永军、张美霞、边琦、于静、 何士、肖旭、 叶琳、杨晓敏、马红斐、王昕 、翟晓云、呼和塔拉、张婷、何志英、洪颖、钦德木尼、额尔敦陶格套、斯琴、元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优秀组织奖获奖名单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84320" y="1196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包头师范学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赤峰学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河套学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呼和浩特民族学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呼伦贝尔学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集宁师范学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内蒙古民族大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内蒙古师范大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07520" y="34920"/>
            <a:ext cx="863640" cy="68407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中国少数民族语言文学（蒙古语）组获奖名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5160" y="260280"/>
          <a:ext cx="9505800" cy="6273720"/>
        </p:xfrm>
        <a:graphic>
          <a:graphicData uri="http://schemas.openxmlformats.org/drawingml/2006/table">
            <a:tbl>
              <a:tblPr/>
              <a:tblGrid>
                <a:gridCol w="1122480"/>
                <a:gridCol w="3031920"/>
                <a:gridCol w="3256200"/>
                <a:gridCol w="2095200"/>
              </a:tblGrid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青萨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额日登塔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伊日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希力木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额尔敦陶古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莫其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安格力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娜美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阿拉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吴明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苏日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南吉拉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0120" y="-100080"/>
            <a:ext cx="1008000" cy="72741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Calibri"/>
              </a:rPr>
              <a:t>数学与应用数学（汉语）组获奖名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39880" y="60480"/>
          <a:ext cx="8952120" cy="6737040"/>
        </p:xfrm>
        <a:graphic>
          <a:graphicData uri="http://schemas.openxmlformats.org/drawingml/2006/table">
            <a:tbl>
              <a:tblPr/>
              <a:tblGrid>
                <a:gridCol w="1057320"/>
                <a:gridCol w="2854440"/>
                <a:gridCol w="3067200"/>
                <a:gridCol w="19731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赵凤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刘雅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解思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任晓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佳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孟庆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崔璐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宋迎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于芳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那慧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裴沛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小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纪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河套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马玉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河套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方鑫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佳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5160" y="115920"/>
            <a:ext cx="648000" cy="61927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Calibri"/>
              </a:rPr>
              <a:t>数学与应用数学（蒙古语）组获奖名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879560" y="549360"/>
          <a:ext cx="9761400" cy="5759280"/>
        </p:xfrm>
        <a:graphic>
          <a:graphicData uri="http://schemas.openxmlformats.org/drawingml/2006/table">
            <a:tbl>
              <a:tblPr/>
              <a:tblGrid>
                <a:gridCol w="1152720"/>
                <a:gridCol w="3112920"/>
                <a:gridCol w="3344760"/>
                <a:gridCol w="21510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额义勒斯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乌英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吴红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潘伟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苏日古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白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海苏日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乌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94800" y="588960"/>
            <a:ext cx="1081080" cy="57326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英语（汉语）组获奖名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67160" y="457200"/>
          <a:ext cx="8929440" cy="5996160"/>
        </p:xfrm>
        <a:graphic>
          <a:graphicData uri="http://schemas.openxmlformats.org/drawingml/2006/table">
            <a:tbl>
              <a:tblPr/>
              <a:tblGrid>
                <a:gridCol w="1055520"/>
                <a:gridCol w="2847960"/>
                <a:gridCol w="3057480"/>
                <a:gridCol w="196848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润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孙子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崔允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淙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张雪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河套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马晓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武佳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马翠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河套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陈思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尹春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韩超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姜雪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3520" y="533160"/>
            <a:ext cx="855720" cy="6094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思想政治教育（汉语）组获奖名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79520" y="552600"/>
          <a:ext cx="9288720" cy="5829120"/>
        </p:xfrm>
        <a:graphic>
          <a:graphicData uri="http://schemas.openxmlformats.org/drawingml/2006/table">
            <a:tbl>
              <a:tblPr/>
              <a:tblGrid>
                <a:gridCol w="1096920"/>
                <a:gridCol w="2962440"/>
                <a:gridCol w="3183120"/>
                <a:gridCol w="2046240"/>
              </a:tblGrid>
              <a:tr h="44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博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苏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段小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马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郭文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吕文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嘉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乌丽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姜文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文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启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3880" y="333000"/>
            <a:ext cx="719280" cy="60930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思想政治教育（蒙古语）组获奖名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063880" y="333360"/>
          <a:ext cx="9361440" cy="6264360"/>
        </p:xfrm>
        <a:graphic>
          <a:graphicData uri="http://schemas.openxmlformats.org/drawingml/2006/table">
            <a:tbl>
              <a:tblPr/>
              <a:tblGrid>
                <a:gridCol w="1104840"/>
                <a:gridCol w="2985840"/>
                <a:gridCol w="3206880"/>
                <a:gridCol w="2063880"/>
              </a:tblGrid>
              <a:tr h="568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秀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其勒格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董乌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萨其日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乌仁斯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娜密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齐齐日勒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纳荷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希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萨楚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和浩特民族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7520" y="-33480"/>
            <a:ext cx="1019160" cy="7245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历史（汉语）组获奖名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35160" y="765000"/>
          <a:ext cx="9577440" cy="5832720"/>
        </p:xfrm>
        <a:graphic>
          <a:graphicData uri="http://schemas.openxmlformats.org/drawingml/2006/table">
            <a:tbl>
              <a:tblPr/>
              <a:tblGrid>
                <a:gridCol w="1131840"/>
                <a:gridCol w="3054600"/>
                <a:gridCol w="3279600"/>
                <a:gridCol w="2111400"/>
              </a:tblGrid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学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奖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申楚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一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田晓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师范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二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孙嘉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王志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吴宣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内蒙古民族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程召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包头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三等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李璐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董思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呼伦贝尔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曹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马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赤峰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宋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集宁师范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优秀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9T04:50:19Z</dcterms:created>
  <dc:creator>admin</dc:creator>
  <dc:description/>
  <dc:language>en-US</dc:language>
  <cp:lastModifiedBy>AL</cp:lastModifiedBy>
  <dcterms:modified xsi:type="dcterms:W3CDTF">2020-10-25T10:18:13Z</dcterms:modified>
  <cp:revision>57</cp:revision>
  <dc:subject/>
  <dc:title>PowerPoint 演示文稿</dc:title>
</cp:coreProperties>
</file>